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jeopardy-full.wav" ContentType="audio/x-wav"/>
  <Override PartName="/ppt/media/image5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DA73-D02B-49F9-98A3-C12F4C73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BCA-BEB4-4A95-AC4F-7747A7AE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1D-3F8F-40A5-A373-834DFCF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2FF-8D13-4AFC-8814-C4ACA8F0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61F-F083-42F1-8F39-8480E18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A52-B14D-44A6-83DA-5168A52D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DB7-A103-45C5-94CF-29A2154B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EB6-7C73-4A56-80A8-18EA08CE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302-27BE-48FC-9F39-D73978A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0EB-6D8E-4873-AC70-A94F89E3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D02-EBB0-41CD-8E8F-8ACEDC1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BAA-D252-4C2B-9550-64626A6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DA8-DD87-4F57-8186-F525229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A8B6-F00F-45E9-942B-902AAF5C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jeopardy-full.wav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5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slide" Target="slide19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5.xml"/><Relationship Id="rId20" Type="http://schemas.openxmlformats.org/officeDocument/2006/relationships/slide" Target="slide25.xml"/><Relationship Id="rId21" Type="http://schemas.openxmlformats.org/officeDocument/2006/relationships/slide" Target="slide27.xml"/><Relationship Id="rId22" Type="http://schemas.openxmlformats.org/officeDocument/2006/relationships/slide" Target="slide27.xml"/><Relationship Id="rId23" Type="http://schemas.openxmlformats.org/officeDocument/2006/relationships/slide" Target="slide29.xml"/><Relationship Id="rId24" Type="http://schemas.openxmlformats.org/officeDocument/2006/relationships/slide" Target="slide29.xml"/><Relationship Id="rId25" Type="http://schemas.openxmlformats.org/officeDocument/2006/relationships/slide" Target="slide31.xml"/><Relationship Id="rId26" Type="http://schemas.openxmlformats.org/officeDocument/2006/relationships/slide" Target="slide31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5.xml"/><Relationship Id="rId30" Type="http://schemas.openxmlformats.org/officeDocument/2006/relationships/slide" Target="slide37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7.xml"/><Relationship Id="rId36" Type="http://schemas.openxmlformats.org/officeDocument/2006/relationships/slide" Target="slide49.xml"/><Relationship Id="rId37" Type="http://schemas.openxmlformats.org/officeDocument/2006/relationships/slide" Target="slide51.xml"/><Relationship Id="rId38" Type="http://schemas.openxmlformats.org/officeDocument/2006/relationships/slide" Target="slide53.xml"/><Relationship Id="rId39" Type="http://schemas.openxmlformats.org/officeDocument/2006/relationships/slide" Target="slide55.xml"/><Relationship Id="rId40" Type="http://schemas.openxmlformats.org/officeDocument/2006/relationships/slide" Target="slide74.xml"/><Relationship Id="rId41" Type="http://schemas.openxmlformats.org/officeDocument/2006/relationships/slide" Target="slide57.xml"/><Relationship Id="rId42" Type="http://schemas.openxmlformats.org/officeDocument/2006/relationships/slide" Target="slide59.xml"/><Relationship Id="rId43" Type="http://schemas.openxmlformats.org/officeDocument/2006/relationships/slide" Target="slide61.xml"/><Relationship Id="rId44" Type="http://schemas.openxmlformats.org/officeDocument/2006/relationships/slide" Target="slide63.xml"/><Relationship Id="rId45" Type="http://schemas.openxmlformats.org/officeDocument/2006/relationships/slide" Target="slide65.xml"/><Relationship Id="rId46" Type="http://schemas.openxmlformats.org/officeDocument/2006/relationships/slide" Target="slide67.xml"/><Relationship Id="rId47" Type="http://schemas.openxmlformats.org/officeDocument/2006/relationships/slide" Target="slide69.xml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ndes Mounta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the capital of the Incan empi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uzc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ow did the Inca get all their territori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ighting battles with other trib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as the Incan empire always as large as it was in the 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o, it started as a small trib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8580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oes “People everywhere buy cool apples.” stan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06668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eru, Ecuador, Bolivia, Chili, Argenti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y is so little known about the Inc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Lo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had no system of writ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was Manco Capac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2193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e was believed to be the first Inca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2952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empire build for pedestrians onl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2,000 miles of road w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terrace farm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914400"/>
            <a:ext cx="5867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utting terraces into the sides of mountains to create more farm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9907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s use for transportation, wool, and foo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lla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id the Incas worship only one god or godde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 Hi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o, they worshiped man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was Int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12193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sun god and the father of the Incan ruler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s believe the rulers we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ving go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n were religious festivals hel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ne every mon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happened at the religious celebra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76212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ancing, feasts, games, parades, and human sacrifi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9907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was the ruler called and how long did he ru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Reli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ca and for lif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Inca queen was called w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y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ow was a new ruler chose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914400"/>
            <a:ext cx="7696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ouncil of nobles picked the new ruler.  It was usually the most promising son of the coy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happened when the ruler di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91440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w ruler got a new palace, and the old ruler was mummified and worshiped in his palace for 30 day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a mita, and what was it use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14300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 is physical labor that all men give, and it is used to build roads, palaces, and public build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s get their slav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Gover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were captured from other trib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were the slaves use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9907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o help build the roads and things and as sacrifi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slaves or servants car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91440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carried the Inca on a litter or platform and chair made of gol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n were slaves sacrific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uring religious festiv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n servants li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n the outside edge of the ci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a lit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Sla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106668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 platform with a chair made of gold on i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14479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is believed to be a descendent of the go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Inca or rul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were religious festivals held and wh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utdoors so everyone could atte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n ruler ha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bsolute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divin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tudying objects to find magic sig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371600" y="13716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borl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fu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4320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71600" y="137160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crown worn by the In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18926" y="10800"/>
                </a:moveTo>
                <a:lnTo>
                  <a:pt x="8421" y="17806"/>
                </a:lnTo>
                <a:lnTo>
                  <a:pt x="8421" y="3794"/>
                </a:lnTo>
                <a:close/>
              </a:path>
              <a:path fill="darken" w="30855" h="21600">
                <a:moveTo>
                  <a:pt x="20772" y="3794"/>
                </a:moveTo>
                <a:lnTo>
                  <a:pt x="20772" y="17806"/>
                </a:lnTo>
                <a:lnTo>
                  <a:pt x="22434" y="17806"/>
                </a:lnTo>
                <a:lnTo>
                  <a:pt x="22434" y="37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89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89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189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 Locat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62000" y="129528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162000" y="24382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3" action="ppaction://hlinksldjump"/>
          </p:cNvPr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7" action="ppaction://hlinksldjump"/>
          </p:cNvPr>
          <p:cNvSpPr/>
          <p:nvPr/>
        </p:nvSpPr>
        <p:spPr>
          <a:xfrm>
            <a:off x="1685880" y="3578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9" action="ppaction://hlinksldjump"/>
          </p:cNvPr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1" action="ppaction://hlinksldjump"/>
          </p:cNvPr>
          <p:cNvSpPr/>
          <p:nvPr/>
        </p:nvSpPr>
        <p:spPr>
          <a:xfrm>
            <a:off x="1685880" y="5864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3" action="ppaction://hlinksldjump"/>
          </p:cNvPr>
          <p:cNvSpPr/>
          <p:nvPr/>
        </p:nvSpPr>
        <p:spPr>
          <a:xfrm>
            <a:off x="3209760" y="127944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5" action="ppaction://hlinksldjump"/>
          </p:cNvPr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7" action="ppaction://hlinksldjump"/>
          </p:cNvPr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9" action="ppaction://hlinksldjump"/>
          </p:cNvPr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0" action="ppaction://hlinksldjump"/>
          </p:cNvPr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1" action="ppaction://hlinksldjump"/>
          </p:cNvPr>
          <p:cNvSpPr/>
          <p:nvPr/>
        </p:nvSpPr>
        <p:spPr>
          <a:xfrm>
            <a:off x="4724280" y="1292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2" action="ppaction://hlinksldjump"/>
          </p:cNvPr>
          <p:cNvSpPr/>
          <p:nvPr/>
        </p:nvSpPr>
        <p:spPr>
          <a:xfrm>
            <a:off x="4724280" y="2435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3" action="ppaction://hlinksldjump"/>
          </p:cNvPr>
          <p:cNvSpPr/>
          <p:nvPr/>
        </p:nvSpPr>
        <p:spPr>
          <a:xfrm>
            <a:off x="4734000" y="3578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4" action="ppaction://hlinksldjump"/>
          </p:cNvPr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5" action="ppaction://hlinksldjump"/>
          </p:cNvPr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6" action="ppaction://hlinksldjump"/>
          </p:cNvPr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7" action="ppaction://hlinksldjump"/>
          </p:cNvPr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8" action="ppaction://hlinksldjump"/>
          </p:cNvPr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9" action="ppaction://hlinksldjump"/>
          </p:cNvPr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1" action="ppaction://hlinksldjump"/>
          </p:cNvPr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2" action="ppaction://hlinksldjump"/>
          </p:cNvPr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3" action="ppaction://hlinksldjump"/>
          </p:cNvPr>
          <p:cNvSpPr/>
          <p:nvPr/>
        </p:nvSpPr>
        <p:spPr>
          <a:xfrm>
            <a:off x="7791480" y="2435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4" action="ppaction://hlinksldjump"/>
          </p:cNvPr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5" action="ppaction://hlinksldjump"/>
          </p:cNvPr>
          <p:cNvSpPr/>
          <p:nvPr/>
        </p:nvSpPr>
        <p:spPr>
          <a:xfrm>
            <a:off x="7791480" y="4721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6" action="ppaction://hlinksldjump"/>
          </p:cNvPr>
          <p:cNvSpPr/>
          <p:nvPr/>
        </p:nvSpPr>
        <p:spPr>
          <a:xfrm>
            <a:off x="7791480" y="5864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7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 Histo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Relig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Slav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Gover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n civilization beg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Donna leBretton</dc:creator>
  <dc:description/>
  <dc:language>en-US</dc:language>
  <cp:lastModifiedBy>Norma</cp:lastModifiedBy>
  <dcterms:modified xsi:type="dcterms:W3CDTF">2007-11-04T22:51:47Z</dcterms:modified>
  <cp:revision>98</cp:revision>
  <dc:subject/>
  <dc:title>Jeopardy</dc:title>
</cp:coreProperties>
</file>